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754-CAF8-4DE3-8F42-EEDE2B48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959-80D0-4C02-B14A-9A082FDD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56C-64A8-4B0C-A1E1-022C05D9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4D5-7127-401E-B523-5B3593E5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ECC-BA44-44DB-946D-1C58B46C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BCC-FA4C-43FA-BF8E-52EBE44B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933-5A1E-4562-A642-3A8B055B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921-E28E-483E-A148-614F86BC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7A2-CEC7-4B56-B769-3A8D03CC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47A-46D8-4298-9ABE-CA2DF07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C3F-DA3A-452F-BF7E-0D73A6BC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DCB-3E98-4442-9CCB-F151B1A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4F03-E500-4BA2-BBF5-6FED59614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th Post Test Sp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20080" cy="505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963400" y="6613560"/>
            <a:ext cx="317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nm.gmu.edu/courses/jackson/mill/index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85800"/>
            <a:ext cx="8001000" cy="155628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 indent="-60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out the early to mid-1800’s, the Lowell factory system primarily emplo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2819520"/>
            <a:ext cx="51055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rie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ried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438280"/>
            <a:ext cx="8991720" cy="29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ine in the southern slav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cline in the size of southern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e in cotto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e in the import of manufac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685800"/>
            <a:ext cx="7315200" cy="106884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as a major effect of the introduction of the cotton g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666880"/>
            <a:ext cx="7543800" cy="29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s enjoyed working near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vers were useful for powering m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ed goods could easily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ed by river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was important for b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838080"/>
            <a:ext cx="8610480" cy="113760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were factories located near riv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all tha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2743200"/>
            <a:ext cx="54100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14400"/>
            <a:ext cx="8381880" cy="10767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 indent="284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well factory system was affected by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284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all tha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41911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914400"/>
            <a:ext cx="8458200" cy="15033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characteristics of Lowell work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all tha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438280"/>
            <a:ext cx="6782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a more equal distribu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w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the growth of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ed to urb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660240"/>
                <a:tab algn="l" pos="825480"/>
                <a:tab algn="l" pos="99072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ended the reform mov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762120"/>
            <a:ext cx="8229600" cy="9471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immigration to the United States in the middle 1800s affect city li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590920"/>
            <a:ext cx="63248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to ow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to m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to v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buClr>
                <a:srgbClr val="000000"/>
              </a:buClr>
              <a:buFont typeface="Arial"/>
              <a:buAutoNum type="alphaUcPeriod"/>
              <a:tabLst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to hold public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838080"/>
            <a:ext cx="8534520" cy="9471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1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was a right of most women in the early 180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5:13:49Z</dcterms:created>
  <dc:creator>Magner</dc:creator>
  <dc:description/>
  <dc:language>en-US</dc:language>
  <cp:lastModifiedBy>Magner</cp:lastModifiedBy>
  <dcterms:modified xsi:type="dcterms:W3CDTF">2009-08-29T00:57:43Z</dcterms:modified>
  <cp:revision>15</cp:revision>
  <dc:subject/>
  <dc:title>Slide 1</dc:title>
</cp:coreProperties>
</file>